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D7A-EA43-4B28-BDBB-2F957E2B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D76-14D7-42CD-9DC1-BF0F606E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636-403B-4AC5-8EBA-9D132F17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236-43B6-43D0-8B48-DC0B4140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E8B5-E353-46A5-9FBE-FBD118A0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F7EF-027A-44ED-8778-8DD918CA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1B84-0AE4-4A38-BA3E-C0FFB702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29C3-0B34-4997-81B8-D779D611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2D30-4655-49E1-B651-0598BE74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D1DD-E7CC-47D6-AF98-0F64A626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8A9D-135A-4B5C-8B68-8E5E92E4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EC6-4190-44ED-8B0B-2EB13CBF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DBFA-B997-4143-964D-D83C263E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28F0-716D-4C99-87D9-9A021FD9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124D-2294-4E53-90F4-F9702A10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142C-4767-431B-91AE-9FB8572E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3FA5-F896-4F88-B80E-85CBC3BE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929-1F99-4B50-B235-52AB2758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1DB-627A-4B86-85B5-FEF7057A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2D0-97F3-48A0-8FB9-256D444A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FBC-B3C7-4172-B7C3-BF729E4D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B60-1ECA-44C5-96AF-024C5131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B80-4480-4506-8F10-67E44397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896-C2E5-4B51-A121-CD10F3E7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649E-A5A3-47DF-8B5B-54357F1736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743D-3A02-4330-8A63-24BFCB8C29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Í HABLAMOS, ASÍ ESCRIBI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INTERJEC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417680"/>
          <a:ext cx="8064000" cy="4663800"/>
        </p:xfrm>
        <a:graphic>
          <a:graphicData uri="http://schemas.openxmlformats.org/drawingml/2006/table">
            <a:tbl>
              <a:tblPr/>
              <a:tblGrid>
                <a:gridCol w="1365840"/>
                <a:gridCol w="669816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JAL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EO INTENSO DE QUE OCURRA AL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RACIÓN, SOR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OR, P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HOL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U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SAL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UF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SANCIO, FASTI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J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OB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CAR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FADO, EXTRAÑE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RAVO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AUSO, ADMI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VAY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GRADO, DISG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DÉN ,INCREDU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E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LAMADA, PREGUNTA, ADVERT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RESIONES LATI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CESSIT: mención honorí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DDENDA: apéndice a un lib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LIAS: por otro nombre, 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OSTERIORI: con pos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RIORI: con an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IS: dos ve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URRÍCULUM VÍTAE: relación de datos pers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ÉFICIT: fal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 PROFESO: intencion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ROSSO MODO: aproxim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 EXTREMIS: en situaciones extre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ÁXIME: princip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TA BENE (N.B.): observ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 CÁPITA: individu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ÓRUM: número de individuos necesario para que pueda tomarse un acuer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ÁVIT: cantidad que sobrepasa la de los ga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LTIMÁTUM: resolución defini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OX POPULI: de dominio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 GRAFÍAS Y/LL-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ETRÁS DE LOS PREFIJOS AD-, DIS- , SUB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QUE TIENEN SÍLABA  -YEC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CON INFINITIVO SIN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AL FINAL DE PALABRA EN UN DIPTONGO O TRIPTON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TERMINADAS EN –ILLO, -ILLA, - ELLO, -ELLA, -AL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ACABADAS –ELLAR, -ILLAR, -ULLAR, -ULL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ALABRAS QUE EMPIEZAN POR EL DIPTONGO HUE-, HUI-, HIE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LAS FORMAS DE LOS VERBOS HABER, HABLAR, HACER, HALLAR, HABIT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LOS ELEMENTOS COMPOSITIVOS HECTO-, HEPTA-, HEMI-, HETERO- ,HOMO-, HEXA- , HIPER-, HIPO-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CTÁR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LIOMO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ICIC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XAED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DROAV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ERHIDR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OGLUCE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OMOGÉN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06:06Z</dcterms:created>
  <dc:creator>AUDIOLEASK</dc:creator>
  <dc:description/>
  <dc:language>en-US</dc:language>
  <cp:lastModifiedBy>AUDIOLEASK</cp:lastModifiedBy>
  <dcterms:modified xsi:type="dcterms:W3CDTF">2013-11-10T21:26:12Z</dcterms:modified>
  <cp:revision>2</cp:revision>
  <dc:subject/>
  <dc:title>TEMA 2</dc:title>
</cp:coreProperties>
</file>